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536-F23F-456D-A6AA-83E69FCD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078-692F-4733-98D7-0AC0F55A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665-7CDA-4BAD-A238-2A91B120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6DC-A4C7-4F3C-BD25-99002F4F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304-BC26-4B69-8E44-93B493D3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1AB-F2DC-4BD6-9CD5-E8CDB2D8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673-364F-4B63-87B5-D7EB2643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0D9-774C-463B-93CA-39B871DB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4FD-C787-4B83-839C-7E272119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763-C9E6-4D46-9C5C-BC49A6B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A1A-9DDE-48A0-B9CA-B25C9F57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097-E784-47F5-81B7-6A94730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15A9-6543-4300-BF70-0E4BC6669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The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4724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086600" cy="294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6934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58000" cy="3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3429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6448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4800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6858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99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858000" cy="281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4267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687060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066680" y="4800600"/>
            <a:ext cx="693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05720" y="42670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29400" y="40384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7010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74674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20120" cy="135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716256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850520" y="4267080"/>
            <a:ext cx="561600" cy="459720"/>
          </a:xfrm>
          <a:prstGeom prst="rect">
            <a:avLst/>
          </a:prstGeom>
          <a:solidFill>
            <a:srgbClr val="d5f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153280" y="4724280"/>
            <a:ext cx="304920" cy="1752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1080" y="4724280"/>
            <a:ext cx="457200" cy="304920"/>
          </a:xfrm>
          <a:prstGeom prst="rect">
            <a:avLst/>
          </a:prstGeom>
          <a:solidFill>
            <a:srgbClr val="e6f1ff"/>
          </a:solidFill>
          <a:ln w="9360">
            <a:solidFill>
              <a:srgbClr val="e6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1:43:28Z</dcterms:modified>
  <cp:revision>43</cp:revision>
  <dc:subject/>
  <dc:title>PowerPoint Presentation</dc:title>
</cp:coreProperties>
</file>